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6A8-5252-41E7-AD70-50E925C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B64-56D7-420E-95C6-A48A6E8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A07-495D-43F3-B9C1-DEBD6D95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3BB-C729-48BE-BDE8-C210E93F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FA8-DD7B-47E2-A4F0-FEBD4DA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953-661B-4673-B013-F4A1AE1A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886-2B5D-41F1-9885-3BEA8E5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5A7-D9F8-440A-970C-D93E75D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F55-8B37-4799-962B-C0D423DB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F38-7626-4BDE-AF88-944582D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7C3-2130-4649-9A41-697B4EE7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103-8509-42BC-9B26-FBE41E4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079B-A6F7-4068-BAE6-979C16F0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4.gif"/><Relationship Id="rId11" Type="http://schemas.openxmlformats.org/officeDocument/2006/relationships/hyperlink" Target="http://www.pbase.com/digitales/spanje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base.com/digitales/spanj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digitales/spanj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foods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more foods and to decide what food groups they go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find out what each other likes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strengthen knowledge of the verb “gu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8000" y="4869000"/>
            <a:ext cx="64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ensal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486900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salchich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salchichas al vino"/>
          <p:cNvPicPr/>
          <p:nvPr/>
        </p:nvPicPr>
        <p:blipFill>
          <a:blip r:embed="rId1"/>
          <a:stretch/>
        </p:blipFill>
        <p:spPr>
          <a:xfrm>
            <a:off x="3143160" y="652320"/>
            <a:ext cx="4884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oll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2102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869000"/>
            <a:ext cx="77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2610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Jamon Serano,  Pata Negr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61040" cy="351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08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8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Jamon Serano,  Pata Neg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06864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08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8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2017800" cy="173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0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0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942920" cy="1522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08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08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108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8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ques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81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diferente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1628640"/>
          <a:ext cx="8229600" cy="2275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19080"/>
                <a:gridCol w="1471680"/>
                <a:gridCol w="1646280"/>
              </a:tblGrid>
              <a:tr h="17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láct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 y legumb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azucar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 gr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s, pescados y maris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32400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iñones / huevos / un past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 aceite / trucha / mejillones / guisantes / yogur / mantequilla / gambas / alubias / leche / pollo / cordero / pera / nata / bistec / margarina / queso / cerdo / 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0"/>
            <a:ext cx="864072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m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t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him /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o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no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n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. po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_ gust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for plur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jam</a:t>
            </a:r>
            <a:r>
              <a:rPr b="0" lang="en-GB" sz="9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Jamon Serano,  Pata Neg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591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escad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52720" y="1407960"/>
            <a:ext cx="37800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frut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09840" y="620640"/>
            <a:ext cx="33638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486900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verdur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762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1109520"/>
            <a:ext cx="5040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arroz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2814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2:00:39Z</dcterms:created>
  <dc:creator>Owner1</dc:creator>
  <dc:description/>
  <dc:language>en-US</dc:language>
  <cp:lastModifiedBy>Owner1</cp:lastModifiedBy>
  <dcterms:modified xsi:type="dcterms:W3CDTF">2008-10-23T12:27:32Z</dcterms:modified>
  <cp:revision>2</cp:revision>
  <dc:subject/>
  <dc:title>Slide 1</dc:title>
</cp:coreProperties>
</file>